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A3C-3489-4709-94FF-C5B19569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5C4-30A4-4FF4-8AC5-C785E45A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870-2815-4FFA-B69E-22BE0027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F44-646B-48D8-9289-412C1D37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33FDA-D7E5-45DD-B173-5EA3E02D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03656-C7D9-4720-8791-B3766838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BEC3D-3621-4F1A-91F8-AD7D05F2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B8C3E-B5A8-4165-B42F-27D8E612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4BD45-566A-4667-9E5A-2CD391A8D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D2E0C-F5B2-4BF8-A809-C2DFD3C3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3E52B-5063-41CD-B58F-22600820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B54-E019-4B5D-A104-956CC2B5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EEABF-B80C-4A81-8009-0A0D313F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A0823-79C2-450D-BA4F-D8CD4559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A5898-1604-4BE1-B7DD-714449CC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86596-DC38-423C-BDD2-9262DBA3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82431-11AD-4E8C-ABFC-F5D1889F6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984-4E17-47BA-B4B3-3DAF5CE1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D0B-706B-4223-A02A-9EDF89E5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3E3E-C66F-4322-B36F-9410BB14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B05-EF8D-4CC5-9C4B-8DDA70DD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779-4BDA-4FBA-9557-C3BA209A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0D3-8D40-454B-B29A-6EB33002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59B-660A-4FD8-9322-F8D1A583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B9A2-A999-4A16-BE86-17AA8C5FED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9A34-BF4E-4CEF-9A05-BE245DBABE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24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ausenzentrum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n der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ealschule an der Bur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Id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0000"/>
              </a:lnSpc>
              <a:spcBef>
                <a:spcPts val="40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affung eines Pausenzentr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80000"/>
              </a:lnSpc>
              <a:spcBef>
                <a:spcPts val="29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iosk für Getränke und Frühstü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80000"/>
              </a:lnSpc>
              <a:spcBef>
                <a:spcPts val="29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effpunkt für ältere Schül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80000"/>
              </a:lnSpc>
              <a:spcBef>
                <a:spcPts val="29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lprojekt „Kiosk“ für 9er als Berufsvorbereitu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80000"/>
              </a:lnSpc>
              <a:spcBef>
                <a:spcPts val="29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 Rahmen des WP 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80000"/>
              </a:lnSpc>
              <a:spcBef>
                <a:spcPts val="29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 20 Schüler und Schülerinn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80000"/>
              </a:lnSpc>
              <a:spcBef>
                <a:spcPts val="29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treuung durch 2 Lehr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Der Verkaufsrau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ulinterner Verkaufsra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51940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ufgabe der 9er - 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senverkauf von Snacks und Geträn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inkau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ntakt mit Händle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rechnu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altliche Diskuss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.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ternehmensführu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gienegesetz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ereinsrec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Die Realis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24360" y="2608200"/>
            <a:ext cx="4968720" cy="3727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00000" y="170028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20800" y="4292640"/>
            <a:ext cx="310356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kauf durch 4 Schül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 Computer 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wei Kass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ffffff"/>
                </a:solidFill>
                <a:uFillTx/>
                <a:latin typeface="Tahoma"/>
              </a:rPr>
              <a:t>PHP-Script mit SQL-Datenban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47640" y="1542960"/>
            <a:ext cx="597708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Die Verwaltungsstruktu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bindung an den Fördervere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msatzsteuerfreibetrag bis 17 Tausend €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okollierung sämtlicher Umsätze über die SQL-Datenban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20:48:10Z</dcterms:created>
  <dc:creator>Kaatze</dc:creator>
  <dc:description/>
  <dc:language>en-US</dc:language>
  <cp:lastModifiedBy>Lehrer</cp:lastModifiedBy>
  <dcterms:modified xsi:type="dcterms:W3CDTF">2005-05-12T10:41:00Z</dcterms:modified>
  <cp:revision>13</cp:revision>
  <dc:subject/>
  <dc:title>Das Pausenzentrum</dc:title>
</cp:coreProperties>
</file>